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01121-2BD4-4079-AB2D-6E0A993ABB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973B4-786E-426F-829B-43001C0E55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5A71A-E88A-4DEA-AEA5-A04A97781B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F155B-19F1-4A3C-A4AB-AEB817CC40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107D4-EA79-4653-B630-8723742B60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C01E3-A687-4AFD-BD77-FEA498C5A6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C89B5-43BA-4218-925D-DB3010EF3A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0E21F-D59D-49B3-8039-BF6F07DBB1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6738A-5837-45E9-946A-B31CCE6EE1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2C47D-3B61-4CDA-97BE-FCFDD3BECA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1C947-A04A-42F9-B9A8-9781083DAB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A0E23-2AE7-4F09-832F-D2C511B632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6E8-22C0-4449-9B79-83A7C8E6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EA7-2B93-40EE-AF8F-AD9D166D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CD41-9617-4A2D-8C6B-4F79D775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EBD-EE7D-4F84-82FC-3EDBA599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0A8-2C25-4688-9D68-27F6A792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B5ED-911C-4395-BEBE-8CAD2F35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114-9D20-410C-AB52-62B8CE88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0AF-69B8-4609-A0F8-2EB12A91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7C1-CF6E-4AD6-BF8D-93689439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274-9429-4038-8711-393E576D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63E-0A41-405F-B996-0DF97EA7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1B6-1BC6-4AE0-BD41-B8B1482F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7FFC8C-0159-4E2D-9EDE-BF0D51D8BE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var/www/vhosts/freefileconvert.com/ALNm41/&#1048;&#1085;&#1090;&#1077;&#1083;&#1052;41/PREZENTAZIYA.odp#&#1057;&#1090;&#1088;&#1072;&#1085;&#1080;&#1094;&#1072;%201" TargetMode="External"/><Relationship Id="rId3" Type="http://schemas.openxmlformats.org/officeDocument/2006/relationships/hyperlink" Target="file:///var/www/vhosts/freefileconvert.com/ALNm41/&#1048;&#1085;&#1090;&#1077;&#1083;&#1052;41/PREZENTAZIYA2.odp#&#1057;&#1090;&#1088;&#1072;&#1085;&#1080;&#1094;&#1072;%201" TargetMode="External"/><Relationship Id="rId4" Type="http://schemas.openxmlformats.org/officeDocument/2006/relationships/hyperlink" Target="file:///var/www/vhosts/freefileconvert.com/httpdocs/student_samples/student_publication/PUBLIKAZIYA.od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yandsearch?rpt=image&amp;text=&#1053;&#1072;&#1085;&#1086;&#1088;&#1086;&#1073;&#1086;&#1090;" TargetMode="External"/><Relationship Id="rId3" Type="http://schemas.openxmlformats.org/officeDocument/2006/relationships/hyperlink" Target="http://gelous.net/2025:article:nano_v_protezirovanii" TargetMode="External"/><Relationship Id="rId4" Type="http://schemas.openxmlformats.org/officeDocument/2006/relationships/hyperlink" Target="http://www.nanonewsnet.r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65964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1079640" y="720720"/>
            <a:ext cx="7019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199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1166" dir="8082896" blurRad="0" rotWithShape="0">
                    <a:srgbClr val="99ccff"/>
                  </a:outerShdw>
                </a:effectLst>
                <a:latin typeface="Times New Roman"/>
              </a:rPr>
              <a:t>Будущее 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51166" dir="8082896" blurRad="0" rotWithShape="0">
                  <a:srgbClr val="99cc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260360" y="2879640"/>
            <a:ext cx="774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199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1166" dir="8082896" blurRad="0" rotWithShape="0">
                    <a:srgbClr val="99ccff"/>
                  </a:outerShdw>
                </a:effectLst>
                <a:latin typeface="Times New Roman"/>
              </a:rPr>
              <a:t>нанотехнологий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51166" dir="8082896" blurRad="0" rotWithShape="0">
                  <a:srgbClr val="99ccff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6" name="WordArt 2"/>
          <p:cNvSpPr txBox="1"/>
          <p:nvPr/>
        </p:nvSpPr>
        <p:spPr>
          <a:xfrm>
            <a:off x="720720" y="539640"/>
            <a:ext cx="8459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Результаты исследования учащих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8720" y="23004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бликация по теме «              развития нанотехнологий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"О чудный новый мир нанотехнологий"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"Нанотехнологии: беспечное будущее или опасность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40360" y="2340000"/>
            <a:ext cx="143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2"/>
          <p:cNvSpPr txBox="1"/>
          <p:nvPr/>
        </p:nvSpPr>
        <p:spPr>
          <a:xfrm>
            <a:off x="539640" y="179280"/>
            <a:ext cx="846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Используемые ресурс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images.yandex.ru/yandsearch?rpt=image&amp;text=%D0%9D%D0%B0%D0%BD%D0%BE%D1%80%D0%BE%D0%B1%D0%BE%D1%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gelous.net/2025:article:nano_v_protezirovan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nanonewsnet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http://ru.wikipedia.org/wik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http://nanotube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http://www.nano.com.u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http://www.starenie.ru/texnologii/nanotex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http://nit.miem.edu.ru/2005/plenar/6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23004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сть России догнать страны Европы и США в развитии нанотехнолог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нотехнология является совокупностью сразу нескольких наук школьного курса: физики, химии, биологии и др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й проект может заинтересовать учащихся и являться мотивацией к более углубленному изучению точных на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900000" y="179280"/>
            <a:ext cx="846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Актуальность   т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8280360" y="5940360"/>
            <a:ext cx="1389240" cy="1389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3"/>
          <p:cNvSpPr txBox="1"/>
          <p:nvPr/>
        </p:nvSpPr>
        <p:spPr>
          <a:xfrm>
            <a:off x="900000" y="360360"/>
            <a:ext cx="846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Дидактические   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251892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у учащихся компетентности в области науки нанотехноло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представления о таких понятиях, как нанотехнология, наноэтика,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ивация к углубленному изучению наук – химии, физики, би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8280360" y="558000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539640" y="539640"/>
            <a:ext cx="846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Методические   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230004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 школьников перерабатывать и обобщать полученную информацию в результате проведенных опытов и экспери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компетентности в сфере самостоятельн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8331120" y="5630760"/>
            <a:ext cx="1568520" cy="1568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9280" y="360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 чему приведет развитие нанотехнологий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539640" y="360360"/>
            <a:ext cx="864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Основополагающий вопро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39640" y="4451400"/>
            <a:ext cx="8407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еспечное будущее                   или                          Опас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0" y="5040360"/>
            <a:ext cx="5040360" cy="25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5040360" y="5040360"/>
            <a:ext cx="5040360" cy="2519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539640" y="179280"/>
            <a:ext cx="918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Темы,   предлагаемые   учащим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539640" y="1800360"/>
            <a:ext cx="8999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для исслед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32396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развития науки нанотехн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уже дало нам развитие нанотехнолог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каким отрицательным последствиям может привести развитие нанотехнолог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ы положительные прогнозы развития нанотехнолог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0" name="WordArt 2"/>
          <p:cNvSpPr txBox="1"/>
          <p:nvPr/>
        </p:nvSpPr>
        <p:spPr>
          <a:xfrm>
            <a:off x="539640" y="131760"/>
            <a:ext cx="918072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Связь   со   школьной   программ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68000" y="7207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анный проект охватывает сразу несколько школьных предме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ка: дифракция волн, атом, опт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ческая хим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я: синтез белка, строение клетки, ДНК, РН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900000" y="4500720"/>
            <a:ext cx="738036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Возраст   учащих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460680" y="6119640"/>
            <a:ext cx="3146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-9 кла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539640" y="539640"/>
            <a:ext cx="8280360" cy="12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Аннотация   проект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ый проект обобщает многие темы образовательного процесса: атом, оптика, дифракция волн, органическая химия, синтез белка и др. Самостоятельная работа с литературой, научными журналами, ресурсами Интернет, встречами с представителями медицины, промышленности, энергетики, учеными поможет учащимся исследовать проблемные вопрос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Ход, время, даты проведения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5759280" y="3060720"/>
            <a:ext cx="4319640" cy="4500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040360" y="8459640"/>
            <a:ext cx="181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60360" y="1979640"/>
            <a:ext cx="9180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Время проведения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ец 10 – начало 11 клас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Срок проведения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меся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Этап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600" spc="-1" strike="noStrike">
                <a:solidFill>
                  <a:srgbClr val="2323dc"/>
                </a:solidFill>
                <a:latin typeface="Arial"/>
              </a:rPr>
              <a:t> Подготовительны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323dc"/>
                </a:solidFill>
                <a:latin typeface="Arial"/>
              </a:rPr>
              <a:t>Неделя физи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323dc"/>
                </a:solidFill>
                <a:latin typeface="Arial"/>
              </a:rPr>
              <a:t>Неделя хим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323dc"/>
                </a:solidFill>
                <a:latin typeface="Arial"/>
              </a:rPr>
              <a:t>Неделя биолог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ознание проблемной ситуации, представление проекта ученикам, постановка целей – 1 занят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600" spc="-1" strike="noStrike">
                <a:solidFill>
                  <a:srgbClr val="2300dc"/>
                </a:solidFill>
                <a:latin typeface="Arial"/>
              </a:rPr>
              <a:t>Проектировочный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становка вопросов, выбор учащимися тем, формирование групп – 1 занят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600" spc="-1" strike="noStrike">
                <a:solidFill>
                  <a:srgbClr val="2323dc"/>
                </a:solidFill>
                <a:latin typeface="Arial"/>
              </a:rPr>
              <a:t>Практически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Сбор информации, систематизация материалов, оформление результатов – 1 неде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600" spc="-1" strike="noStrike">
                <a:solidFill>
                  <a:srgbClr val="2323dc"/>
                </a:solidFill>
                <a:latin typeface="Arial"/>
              </a:rPr>
              <a:t>Защита проектов и подведение итогов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1 занят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2:59:56Z</dcterms:created>
  <dc:creator/>
  <dc:description/>
  <dc:language>en-US</dc:language>
  <cp:lastModifiedBy>Nabster</cp:lastModifiedBy>
  <dcterms:modified xsi:type="dcterms:W3CDTF">2010-06-03T18:17:51Z</dcterms:modified>
  <cp:revision>7</cp:revision>
  <dc:subject/>
  <dc:title>Слайд 1</dc:title>
</cp:coreProperties>
</file>